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CDB-CCFC-452B-807D-F92E2A23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8BA-0F02-46B6-848E-E6FF6D77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1A8-39F8-4AD2-BB1A-46752632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AB8-B655-4698-AAF0-03BA521C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2EB-B0C0-462D-954D-14DD0A32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CB1-1E85-4896-A793-E1300337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EDC-0CEF-43CF-8BB4-DD2C378E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0AD-2149-44BA-B686-10229A00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E14-5519-465D-A2D5-8DDB11C5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68A-C239-48AB-AA57-7BEA2066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908-6CD2-47E8-B83C-2E76C5EC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232-8B99-438D-88C6-F84369C1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923B-BE9F-49A1-A31F-76471C984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206007KpoZqsBeQp_ph" descr=""/>
          <p:cNvPicPr/>
          <p:nvPr/>
        </p:nvPicPr>
        <p:blipFill>
          <a:blip r:embed="rId1"/>
          <a:stretch/>
        </p:blipFill>
        <p:spPr>
          <a:xfrm>
            <a:off x="0" y="0"/>
            <a:ext cx="495936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429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مام كأسك تنحني الرؤو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                                  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خفق القلوب تتمتم الشف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وتحلم العيون بنورك الم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مام كأسك نهتف بالدع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ندعو باسمك نحاور السماء فاستجب لنا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55:57Z</dcterms:created>
  <dc:creator>USER</dc:creator>
  <dc:description/>
  <dc:language>en-US</dc:language>
  <cp:lastModifiedBy>USER</cp:lastModifiedBy>
  <dcterms:modified xsi:type="dcterms:W3CDTF">2002-10-30T16:56:17Z</dcterms:modified>
  <cp:revision>1</cp:revision>
  <dc:subject/>
  <dc:title>PowerPoint Presentation</dc:title>
</cp:coreProperties>
</file>